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A50-F0F5-4A3A-B0BD-343AF24370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0F28-25F2-4FED-A5D1-18053EB40D5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F4C-90BC-422E-BEC5-E465BE82135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C55B-FD1D-402F-B9A7-EC42702E8C8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CB8-A168-49FE-8791-FA663F9CB1A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B15-64DA-40A5-B800-20C7725B01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2D3-4D9B-4F79-B7C4-39316EC7FA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B63B-71CD-4783-B0BA-12EAB32F84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3416-46D5-4E66-ACF0-E85ECAD451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9FF-26C8-437B-9DB8-3C4DE36435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496C-EEEA-47E5-839E-378066DB05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91C-D1D2-4226-B1D4-B7C8341FD9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1343-E722-474E-8A2B-05B133C4218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A6A-1BB3-494D-8ACD-061DD11CCED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DF2F-3D6F-468F-8B7E-A99B35883D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205-8504-44C7-BE48-1457B5D5AF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DE5-891A-4922-94CA-61F65F7C67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ACF-7722-4CCB-8F3E-109A426DE4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748A-659A-4D1E-B56A-2752D2D18C0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B669-D0CA-4950-BC5B-1A8627E95BC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E2D-56DF-416B-9F4C-32A6F918B47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E90-CA41-4B5B-B59F-9A0B6D3C795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43E6-27D6-49A1-9BE3-E7D56322BB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02C-38FC-4C95-ABA0-E7C4CE4A04D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9F9-9A27-4AFC-B195-9C7FCA35D66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3933-5B06-44C4-8C3F-73ABD625280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BC2-E01A-4CD4-91F1-F2DD1782E2C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686-799E-412B-8CA1-EECCCD31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F2A-0073-4430-AA07-51CE870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7FC-88CD-4547-A293-FDA24E2D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011-90DB-4FF4-87C8-CBFBF15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D57-F91A-441E-A8CE-D062653F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935-3796-451C-9EC8-B235D22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B85-B824-4AFE-8B7A-11AF641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D67-7780-4796-A70B-D00E9DE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5BF-BEBF-4E1D-9FCE-8A8EBC5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F46-109C-4916-A98A-833A875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6C5-45B9-4E2F-A93D-0BC9EF2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3D2-2039-4C09-83B6-9336867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B5F-07EE-495E-AE6E-AAC440C69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-153720" y="1828800"/>
            <a:ext cx="93722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ектрохемијски основи проц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КСИДО-РЕДУ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295280" y="35053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888680" y="6510240"/>
            <a:ext cx="13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недељ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332000" y="419112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533520" y="533520"/>
            <a:ext cx="7772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790015"/>
                </a:solidFill>
                <a:latin typeface="Arial"/>
              </a:rPr>
              <a:t>Оксидациона</a:t>
            </a:r>
            <a:r>
              <a:rPr b="0" lang="en-US" sz="5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sr-CS" sz="5400" spc="-1" strike="noStrike">
                <a:solidFill>
                  <a:srgbClr val="790015"/>
                </a:solidFill>
                <a:latin typeface="Arial"/>
              </a:rPr>
              <a:t>стањ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454760" y="1523880"/>
            <a:ext cx="554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3733920" y="17524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5200" y="2743200"/>
          <a:ext cx="8848800" cy="3840120"/>
        </p:xfrm>
        <a:graphic>
          <a:graphicData uri="http://schemas.openxmlformats.org/drawingml/2006/table">
            <a:tbl>
              <a:tblPr/>
              <a:tblGrid>
                <a:gridCol w="4424400"/>
                <a:gridCol w="442440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Oksid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an reaktant gubi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kciono sredstvo se oksid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r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nk gubi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nk se oksiduje pa  je redukciono sredst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cinka raste od 0 do 2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edukci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gi reaktant prima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o sredstvo se reduk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opad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 vodonika dobija elektro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onik je oksidaciono sredstvo i pritom se redukuj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opada od +1 na 0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9"/>
          <p:cNvSpPr/>
          <p:nvPr/>
        </p:nvSpPr>
        <p:spPr>
          <a:xfrm>
            <a:off x="53352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447200" y="3056040"/>
            <a:ext cx="64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+ 2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3597120" y="33703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-313920" y="371160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        +1           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2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1479600" y="418464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479600" y="4489560"/>
            <a:ext cx="3946320" cy="1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1515240" y="4570560"/>
            <a:ext cx="189216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ксид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2479680" y="40845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2479680" y="4313160"/>
            <a:ext cx="4378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V="1">
            <a:off x="6858000" y="408420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3458520" y="3736800"/>
            <a:ext cx="166500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Реду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739800" y="5083200"/>
            <a:ext cx="312408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је елек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ста се оксиду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2073240" y="1028880"/>
            <a:ext cx="3581280" cy="15570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ма елек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ста се редукуј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own Arrow 18"/>
          <p:cNvSpPr/>
          <p:nvPr/>
        </p:nvSpPr>
        <p:spPr>
          <a:xfrm>
            <a:off x="930240" y="3665520"/>
            <a:ext cx="152280" cy="12952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Up Arrow 19"/>
          <p:cNvSpPr/>
          <p:nvPr/>
        </p:nvSpPr>
        <p:spPr>
          <a:xfrm>
            <a:off x="2606760" y="2598840"/>
            <a:ext cx="75960" cy="457200"/>
          </a:xfrm>
          <a:prstGeom prst="upArrow">
            <a:avLst>
              <a:gd name="adj1" fmla="val 50000"/>
              <a:gd name="adj2" fmla="val 50158"/>
            </a:avLst>
          </a:prstGeom>
          <a:solidFill>
            <a:srgbClr val="92d050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"/>
          <p:cNvSpPr/>
          <p:nvPr/>
        </p:nvSpPr>
        <p:spPr>
          <a:xfrm flipV="1">
            <a:off x="5425920" y="4113360"/>
            <a:ext cx="0" cy="39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ксидоредукцион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а се мож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31360" y="1447920"/>
            <a:ext cx="64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+ 2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697200" y="1747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1235160" y="18907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235160" y="2195640"/>
            <a:ext cx="3908520" cy="1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5124600" y="18475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45480" y="2475000"/>
            <a:ext cx="173052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окси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666880" y="2133720"/>
            <a:ext cx="3962520" cy="19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6629400" y="194292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355360" y="2455920"/>
            <a:ext cx="166500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Реду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328480" y="3352680"/>
            <a:ext cx="40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930400" y="363384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329200" y="4114800"/>
            <a:ext cx="37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393876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600200" y="3276720"/>
            <a:ext cx="5562720" cy="1371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455560" y="4800600"/>
            <a:ext cx="30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олу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31640" y="10414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S + 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       </a:t>
            </a:r>
            <a:r>
              <a:rPr b="1" lang="sr-Latn-R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NO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3270240" y="130320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233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1"/>
          <p:cNvSpPr/>
          <p:nvPr/>
        </p:nvSpPr>
        <p:spPr>
          <a:xfrm>
            <a:off x="1374480" y="2527200"/>
            <a:ext cx="6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42"/>
          <p:cNvCxnSpPr/>
          <p:nvPr/>
        </p:nvCxnSpPr>
        <p:spPr>
          <a:xfrm>
            <a:off x="2066400" y="2812680"/>
            <a:ext cx="58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43"/>
          <p:cNvSpPr/>
          <p:nvPr/>
        </p:nvSpPr>
        <p:spPr>
          <a:xfrm>
            <a:off x="2675160" y="2495520"/>
            <a:ext cx="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4"/>
          <p:cNvSpPr/>
          <p:nvPr/>
        </p:nvSpPr>
        <p:spPr>
          <a:xfrm>
            <a:off x="1389240" y="4216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45"/>
          <p:cNvCxnSpPr/>
          <p:nvPr/>
        </p:nvCxnSpPr>
        <p:spPr>
          <a:xfrm>
            <a:off x="2101320" y="4476240"/>
            <a:ext cx="58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Box 46"/>
          <p:cNvSpPr/>
          <p:nvPr/>
        </p:nvSpPr>
        <p:spPr>
          <a:xfrm>
            <a:off x="2760840" y="4216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7"/>
          <p:cNvSpPr/>
          <p:nvPr/>
        </p:nvSpPr>
        <p:spPr>
          <a:xfrm flipH="1">
            <a:off x="1959120" y="215892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8"/>
          <p:cNvSpPr/>
          <p:nvPr/>
        </p:nvSpPr>
        <p:spPr>
          <a:xfrm flipH="1">
            <a:off x="2011320" y="382284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9"/>
          <p:cNvSpPr/>
          <p:nvPr/>
        </p:nvSpPr>
        <p:spPr>
          <a:xfrm>
            <a:off x="1892160" y="28130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0"/>
          <p:cNvSpPr/>
          <p:nvPr/>
        </p:nvSpPr>
        <p:spPr>
          <a:xfrm flipH="1">
            <a:off x="1965240" y="453384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1"/>
          <p:cNvSpPr/>
          <p:nvPr/>
        </p:nvSpPr>
        <p:spPr>
          <a:xfrm>
            <a:off x="3930480" y="2527200"/>
            <a:ext cx="0" cy="237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2"/>
          <p:cNvSpPr/>
          <p:nvPr/>
        </p:nvSpPr>
        <p:spPr>
          <a:xfrm>
            <a:off x="4205160" y="2438280"/>
            <a:ext cx="4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3"/>
          <p:cNvSpPr/>
          <p:nvPr/>
        </p:nvSpPr>
        <p:spPr>
          <a:xfrm>
            <a:off x="4332240" y="4216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 flipH="1">
            <a:off x="754920" y="7333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522440" y="7160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792600" y="75240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795280" y="754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110840" y="3319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272880" y="53928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CuS + 8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       </a:t>
            </a:r>
            <a:r>
              <a:rPr b="1" lang="sr-Latn-R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8NO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4"/>
          <p:cNvSpPr/>
          <p:nvPr/>
        </p:nvSpPr>
        <p:spPr>
          <a:xfrm>
            <a:off x="3675240" y="5654520"/>
            <a:ext cx="51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4"/>
          <p:cNvSpPr/>
          <p:nvPr/>
        </p:nvSpPr>
        <p:spPr>
          <a:xfrm>
            <a:off x="324000" y="53352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 flipH="1">
            <a:off x="314280" y="2679840"/>
            <a:ext cx="6330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904640" y="2679840"/>
            <a:ext cx="258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4"/>
          <p:cNvSpPr/>
          <p:nvPr/>
        </p:nvSpPr>
        <p:spPr>
          <a:xfrm>
            <a:off x="3886200" y="303372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2585880" y="1736640"/>
            <a:ext cx="105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486000" y="22068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 flipH="1">
            <a:off x="304920" y="1206360"/>
            <a:ext cx="633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96880" y="1143000"/>
            <a:ext cx="210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2705040" y="541980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90480" y="831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293920" y="77328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389400" y="7570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4287960" y="74772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 flipH="1">
            <a:off x="608040" y="243360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5"/>
          <p:cNvSpPr/>
          <p:nvPr/>
        </p:nvSpPr>
        <p:spPr>
          <a:xfrm>
            <a:off x="690480" y="2003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4"/>
          <p:cNvSpPr/>
          <p:nvPr/>
        </p:nvSpPr>
        <p:spPr>
          <a:xfrm flipV="1">
            <a:off x="1371600" y="2695320"/>
            <a:ext cx="838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 flipH="1">
            <a:off x="2328840" y="2433600"/>
            <a:ext cx="7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8"/>
          <p:cNvSpPr/>
          <p:nvPr/>
        </p:nvSpPr>
        <p:spPr>
          <a:xfrm>
            <a:off x="2457360" y="1979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1371600" y="2822400"/>
            <a:ext cx="9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405080" y="210816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4"/>
          <p:cNvSpPr/>
          <p:nvPr/>
        </p:nvSpPr>
        <p:spPr>
          <a:xfrm flipV="1">
            <a:off x="1371600" y="2696760"/>
            <a:ext cx="838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 flipH="1">
            <a:off x="786600" y="398304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4"/>
          <p:cNvSpPr/>
          <p:nvPr/>
        </p:nvSpPr>
        <p:spPr>
          <a:xfrm>
            <a:off x="870120" y="355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5"/>
          <p:cNvSpPr/>
          <p:nvPr/>
        </p:nvSpPr>
        <p:spPr>
          <a:xfrm>
            <a:off x="2635200" y="353052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6"/>
          <p:cNvSpPr/>
          <p:nvPr/>
        </p:nvSpPr>
        <p:spPr>
          <a:xfrm>
            <a:off x="1550880" y="4373640"/>
            <a:ext cx="9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4"/>
          <p:cNvSpPr/>
          <p:nvPr/>
        </p:nvSpPr>
        <p:spPr>
          <a:xfrm flipV="1">
            <a:off x="1550880" y="4246560"/>
            <a:ext cx="838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8"/>
          <p:cNvSpPr/>
          <p:nvPr/>
        </p:nvSpPr>
        <p:spPr>
          <a:xfrm>
            <a:off x="1584360" y="366084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6360" y="39528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66"/>
          <p:cNvSpPr/>
          <p:nvPr/>
        </p:nvSpPr>
        <p:spPr>
          <a:xfrm>
            <a:off x="3873600" y="236520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7"/>
          <p:cNvSpPr/>
          <p:nvPr/>
        </p:nvSpPr>
        <p:spPr>
          <a:xfrm>
            <a:off x="4210200" y="22748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275000" y="40528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9"/>
          <p:cNvSpPr/>
          <p:nvPr/>
        </p:nvSpPr>
        <p:spPr>
          <a:xfrm>
            <a:off x="4114800" y="315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 flipH="1">
            <a:off x="433440" y="5159520"/>
            <a:ext cx="633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3245400" y="5102280"/>
            <a:ext cx="25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Fe + 3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4"/>
          <p:cNvSpPr/>
          <p:nvPr/>
        </p:nvSpPr>
        <p:spPr>
          <a:xfrm>
            <a:off x="2666880" y="143496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 flipH="1">
            <a:off x="322200" y="1214280"/>
            <a:ext cx="633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314520" y="1150920"/>
            <a:ext cx="210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4"/>
          <p:cNvSpPr/>
          <p:nvPr/>
        </p:nvSpPr>
        <p:spPr>
          <a:xfrm>
            <a:off x="2684520" y="1442880"/>
            <a:ext cx="51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457200" y="797040"/>
            <a:ext cx="5105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ки метали су реактивнији од других. Магнезијум је рецимо лако зап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в до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лато или други „племенити метали“ веома стабил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еђеност метала према њиховој реактивности се назива активни низ мета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активнији је литијум а најмање активно је зл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експерименту на вежбама проверићете активност метала који метали ће се оксидовати а који јони ће се редуков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тивни низ метала се назива још и напонски низ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867280" y="0"/>
          <a:ext cx="3048120" cy="6566040"/>
        </p:xfrm>
        <a:graphic>
          <a:graphicData uri="http://schemas.openxmlformats.org/drawingml/2006/table">
            <a:tbl>
              <a:tblPr/>
              <a:tblGrid>
                <a:gridCol w="1727280"/>
                <a:gridCol w="1320840"/>
              </a:tblGrid>
              <a:tr h="33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0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ве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мањ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ез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ба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а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Up Arrow 4"/>
          <p:cNvSpPr/>
          <p:nvPr/>
        </p:nvSpPr>
        <p:spPr>
          <a:xfrm>
            <a:off x="7924680" y="685800"/>
            <a:ext cx="381240" cy="54864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39760" y="22860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тивни низ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124080" y="165240"/>
          <a:ext cx="5867640" cy="5870520"/>
        </p:xfrm>
        <a:graphic>
          <a:graphicData uri="http://schemas.openxmlformats.org/drawingml/2006/table">
            <a:tbl>
              <a:tblPr/>
              <a:tblGrid>
                <a:gridCol w="1359000"/>
                <a:gridCol w="2135160"/>
                <a:gridCol w="1408320"/>
                <a:gridCol w="965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ја оксид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Li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ве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м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ез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l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3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n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Z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r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3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e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ба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i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n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b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b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u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H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6" name="Up Arrow 2"/>
          <p:cNvSpPr/>
          <p:nvPr/>
        </p:nvSpPr>
        <p:spPr>
          <a:xfrm>
            <a:off x="7086600" y="825480"/>
            <a:ext cx="380880" cy="488952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е способност оксид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own Arrow 3"/>
          <p:cNvSpPr/>
          <p:nvPr/>
        </p:nvSpPr>
        <p:spPr>
          <a:xfrm>
            <a:off x="8153280" y="825480"/>
            <a:ext cx="381240" cy="48895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е способност реду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0" y="228600"/>
            <a:ext cx="30481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Најлакше се оксид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Најтеже се редуку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2960" y="5410080"/>
            <a:ext cx="293760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Најлакше се редук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Најтеже се оксидуј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7200" y="5715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најм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8078760" y="57150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Најве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816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ак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ом се мери потенцијал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вол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J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стандардни редукциони потенцијал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98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 потенцијал било које врсте се мери у односу на редукциони потенцијал водо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  0.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80880" y="0"/>
            <a:ext cx="7848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едукцион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отенција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219400" y="1547640"/>
            <a:ext cx="452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+ 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R 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s)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E =  ......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8"/>
          <p:cNvGrpSpPr/>
          <p:nvPr/>
        </p:nvGrpSpPr>
        <p:grpSpPr>
          <a:xfrm>
            <a:off x="0" y="0"/>
            <a:ext cx="8305920" cy="6854400"/>
            <a:chOff x="0" y="0"/>
            <a:chExt cx="8305920" cy="6854400"/>
          </a:xfrm>
        </p:grpSpPr>
        <p:sp>
          <p:nvSpPr>
            <p:cNvPr id="206" name="Rectangle 2"/>
            <p:cNvSpPr/>
            <p:nvPr/>
          </p:nvSpPr>
          <p:spPr>
            <a:xfrm>
              <a:off x="2286000" y="914400"/>
              <a:ext cx="1066680" cy="5334120"/>
            </a:xfrm>
            <a:prstGeom prst="rect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"/>
            <p:cNvSpPr/>
            <p:nvPr/>
          </p:nvSpPr>
          <p:spPr>
            <a:xfrm>
              <a:off x="3733920" y="914400"/>
              <a:ext cx="1066680" cy="5334120"/>
            </a:xfrm>
            <a:prstGeom prst="rect">
              <a:avLst/>
            </a:prstGeom>
            <a:gradFill rotWithShape="0">
              <a:gsLst>
                <a:gs pos="0">
                  <a:srgbClr val="8cadea"/>
                </a:gs>
                <a:gs pos="100000">
                  <a:srgbClr val="dee6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2370600" y="5791320"/>
              <a:ext cx="21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+ 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Li 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s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2367360" y="914400"/>
              <a:ext cx="22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2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2F-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7"/>
            <p:cNvSpPr/>
            <p:nvPr/>
          </p:nvSpPr>
          <p:spPr>
            <a:xfrm>
              <a:off x="3276720" y="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ај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ј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че оксидационо сре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8"/>
            <p:cNvSpPr/>
            <p:nvPr/>
          </p:nvSpPr>
          <p:spPr>
            <a:xfrm>
              <a:off x="0" y="228600"/>
              <a:ext cx="30481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Највиш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 позитивн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 врдност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sr-CS" sz="1800" spc="-1" strike="noStrike" baseline="30000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sr-Latn-CS" sz="1800" spc="-1" strike="noStrike" baseline="-25000">
                  <a:solidFill>
                    <a:srgbClr val="ff0000"/>
                  </a:solidFill>
                  <a:latin typeface="Arial"/>
                </a:rPr>
                <a:t>red 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 = +2.87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9"/>
            <p:cNvSpPr/>
            <p:nvPr/>
          </p:nvSpPr>
          <p:spPr>
            <a:xfrm>
              <a:off x="5257800" y="5562720"/>
              <a:ext cx="30481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Највиш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  негативн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  врдност Е</a:t>
              </a:r>
              <a:r>
                <a:rPr b="1" lang="sr-CS" sz="1800" spc="-1" strike="noStrike" baseline="30000">
                  <a:solidFill>
                    <a:srgbClr val="0070c0"/>
                  </a:solidFill>
                  <a:latin typeface="Arial"/>
                </a:rPr>
                <a:t>о</a:t>
              </a:r>
              <a:r>
                <a:rPr b="1" lang="sr-Latn-CS" sz="1800" spc="-1" strike="noStrike" baseline="-25000">
                  <a:solidFill>
                    <a:srgbClr val="0070c0"/>
                  </a:solidFill>
                  <a:latin typeface="Arial"/>
                </a:rPr>
                <a:t>red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 = - 3.05 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0"/>
            <p:cNvSpPr/>
            <p:nvPr/>
          </p:nvSpPr>
          <p:spPr>
            <a:xfrm>
              <a:off x="5029200" y="62118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ајјаче редукционо сре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 rot="16200000">
              <a:off x="-649800" y="3326400"/>
              <a:ext cx="55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0000"/>
                  </a:solidFill>
                  <a:latin typeface="Arial"/>
                </a:rPr>
                <a:t>Расте  јачина оксидационих спосо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2"/>
            <p:cNvSpPr/>
            <p:nvPr/>
          </p:nvSpPr>
          <p:spPr>
            <a:xfrm rot="5400000">
              <a:off x="2348640" y="3366360"/>
              <a:ext cx="542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70c0"/>
                  </a:solidFill>
                  <a:latin typeface="Arial"/>
                </a:rPr>
                <a:t>Расте  јачина  редукционих спосо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421720" y="3276720"/>
              <a:ext cx="207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Н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sr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g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733920" y="5715000"/>
              <a:ext cx="6858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2286000" y="914400"/>
              <a:ext cx="6858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Straight Arrow Connector 17"/>
            <p:cNvCxnSpPr>
              <a:stCxn id="210" idx="1"/>
            </p:cNvCxnSpPr>
            <p:nvPr/>
          </p:nvCxnSpPr>
          <p:spPr>
            <a:xfrm flipH="1">
              <a:off x="2437920" y="323640"/>
              <a:ext cx="838800" cy="591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Straight Arrow Connector 19"/>
            <p:cNvCxnSpPr>
              <a:stCxn id="213" idx="1"/>
              <a:endCxn id="217" idx="2"/>
            </p:cNvCxnSpPr>
            <p:nvPr/>
          </p:nvCxnSpPr>
          <p:spPr>
            <a:xfrm flipH="1" flipV="1">
              <a:off x="4075920" y="6247800"/>
              <a:ext cx="952920" cy="286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Straight Arrow Connector 23"/>
            <p:cNvCxnSpPr/>
            <p:nvPr/>
          </p:nvCxnSpPr>
          <p:spPr>
            <a:xfrm flipV="1">
              <a:off x="1904760" y="3885480"/>
              <a:ext cx="2160" cy="1524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Straight Arrow Connector 25"/>
            <p:cNvCxnSpPr/>
            <p:nvPr/>
          </p:nvCxnSpPr>
          <p:spPr>
            <a:xfrm flipH="1">
              <a:off x="5257440" y="1523520"/>
              <a:ext cx="2160" cy="1524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</p:grpSp>
      <p:sp>
        <p:nvSpPr>
          <p:cNvPr id="223" name="Rectangle 37"/>
          <p:cNvSpPr/>
          <p:nvPr/>
        </p:nvSpPr>
        <p:spPr>
          <a:xfrm>
            <a:off x="2286000" y="3276720"/>
            <a:ext cx="23623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5222520" y="3276720"/>
            <a:ext cx="1877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sr-CS" sz="24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red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= 0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943600" y="533520"/>
            <a:ext cx="26668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4800600" y="1219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4572000" y="3733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228600"/>
            <a:ext cx="8839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ЕЛЕКТРОХЕМ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Област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физичк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хемиј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која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испитуј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процес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пренос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електр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57600" y="45496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х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руч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инте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те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селектив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оз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179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2895480" y="3048120"/>
            <a:ext cx="2092320" cy="160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2463840" cy="181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Nokia 3100"/>
          <p:cNvPicPr/>
          <p:nvPr/>
        </p:nvPicPr>
        <p:blipFill>
          <a:blip r:embed="rId4"/>
          <a:stretch/>
        </p:blipFill>
        <p:spPr>
          <a:xfrm>
            <a:off x="7315200" y="1981080"/>
            <a:ext cx="1066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0" y="4419720"/>
            <a:ext cx="23036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6"/>
          <a:stretch/>
        </p:blipFill>
        <p:spPr>
          <a:xfrm>
            <a:off x="1981080" y="5029200"/>
            <a:ext cx="169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28600" y="0"/>
          <a:ext cx="4191120" cy="6867360"/>
        </p:xfrm>
        <a:graphic>
          <a:graphicData uri="http://schemas.openxmlformats.org/drawingml/2006/table">
            <a:tbl>
              <a:tblPr/>
              <a:tblGrid>
                <a:gridCol w="2457360"/>
                <a:gridCol w="173376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ciona polureakcija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redukcioni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al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i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l(s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 + C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F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2"/>
          <p:cNvSpPr/>
          <p:nvPr/>
        </p:nvSpPr>
        <p:spPr>
          <a:xfrm>
            <a:off x="4667400" y="3792600"/>
            <a:ext cx="4343400" cy="301860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438800" y="-38160"/>
            <a:ext cx="4572000" cy="301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Up Arrow 6"/>
          <p:cNvSpPr/>
          <p:nvPr/>
        </p:nvSpPr>
        <p:spPr>
          <a:xfrm>
            <a:off x="4438800" y="1314360"/>
            <a:ext cx="514080" cy="5562720"/>
          </a:xfrm>
          <a:prstGeom prst="up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е способност оксид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7"/>
          <p:cNvSpPr/>
          <p:nvPr/>
        </p:nvSpPr>
        <p:spPr>
          <a:xfrm>
            <a:off x="8782200" y="914400"/>
            <a:ext cx="457200" cy="5943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е способност реду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30492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бличне 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+1.359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0.00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-2.925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акше редук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теже редук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7772400" cy="330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04920" y="3124080"/>
            <a:ext cx="77724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аци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0880" y="3581280"/>
            <a:ext cx="77724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оксидацију, реакција је реверзна и потенцијал има супротан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-1.359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0.00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(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+2.925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тешко оксид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ако оксид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80880" y="1447920"/>
          <a:ext cx="5029200" cy="1554120"/>
        </p:xfrm>
        <a:graphic>
          <a:graphicData uri="http://schemas.openxmlformats.org/drawingml/2006/table">
            <a:tbl>
              <a:tblPr/>
              <a:tblGrid>
                <a:gridCol w="2154240"/>
                <a:gridCol w="768600"/>
                <a:gridCol w="2106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0"/>
          <p:cNvSpPr/>
          <p:nvPr/>
        </p:nvSpPr>
        <p:spPr>
          <a:xfrm>
            <a:off x="609480" y="3276720"/>
            <a:ext cx="82296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2 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q) + 2 e-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Zn(s)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685800" y="4876920"/>
            <a:ext cx="8153280" cy="1154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sr-Latn-C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aq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u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red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0.3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3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и и Оксидаци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 имају исту апсолутну вредност али су супротног знака, ако је оксидациони потенцијал позитиван тада је редукциони негативан и обрнут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271840" y="220968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 је спонт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21_04"/>
          <p:cNvPicPr/>
          <p:nvPr/>
        </p:nvPicPr>
        <p:blipFill>
          <a:blip r:embed="rId1"/>
          <a:stretch/>
        </p:blipFill>
        <p:spPr>
          <a:xfrm>
            <a:off x="38160" y="2611440"/>
            <a:ext cx="5200560" cy="4160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0" y="235080"/>
            <a:ext cx="5486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ида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n2+(a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2e-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334120" y="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оцес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теч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понтано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аствору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нек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бакров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ол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цинка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oj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лочиц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здвајат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бакар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здвајаће се елемент који има већи редукциони потенциј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2072880" y="91440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o= - 0.7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995840" y="16765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o=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TB20_001"/>
          <p:cNvPicPr/>
          <p:nvPr/>
        </p:nvPicPr>
        <p:blipFill>
          <a:blip r:embed="rId2"/>
          <a:srcRect l="0" t="0" r="30022" b="38"/>
          <a:stretch/>
        </p:blipFill>
        <p:spPr>
          <a:xfrm>
            <a:off x="5562720" y="2895480"/>
            <a:ext cx="33526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48" name="Straight Arrow Connector 8"/>
          <p:cNvCxnSpPr/>
          <p:nvPr/>
        </p:nvCxnSpPr>
        <p:spPr>
          <a:xfrm>
            <a:off x="4876920" y="5334120"/>
            <a:ext cx="83880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49" name="Straight Arrow Connector 11"/>
          <p:cNvCxnSpPr/>
          <p:nvPr/>
        </p:nvCxnSpPr>
        <p:spPr>
          <a:xfrm>
            <a:off x="4876920" y="6019920"/>
            <a:ext cx="83880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50" name="TextBox 9"/>
          <p:cNvSpPr/>
          <p:nvPr/>
        </p:nvSpPr>
        <p:spPr>
          <a:xfrm>
            <a:off x="5562720" y="2895480"/>
            <a:ext cx="358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тандардни редуциони потенцијал 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2"/>
          <p:cNvSpPr/>
          <p:nvPr/>
        </p:nvSpPr>
        <p:spPr>
          <a:xfrm>
            <a:off x="304920" y="117360"/>
            <a:ext cx="8610480" cy="69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мент ће се оксидовати у раствору другог метала ако је његов потенцијал редукције негативнији или мање позитиван, при чему ће тај процес ће бити 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10080" y="2362320"/>
          <a:ext cx="3276720" cy="3108240"/>
        </p:xfrm>
        <a:graphic>
          <a:graphicData uri="http://schemas.openxmlformats.org/drawingml/2006/table">
            <a:tbl>
              <a:tblPr/>
              <a:tblGrid>
                <a:gridCol w="1067040"/>
                <a:gridCol w="22096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укциони потенцијал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28600" y="1752480"/>
            <a:ext cx="4267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л  ће се оксидовати  и притом растварати у киселинама  ако је његов потенцијал редукције негативнији, од потенцијала редукције водоника ри чему ће тај процес ће бити спонт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E =  0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E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495680" y="1676520"/>
          <a:ext cx="4419720" cy="4838760"/>
        </p:xfrm>
        <a:graphic>
          <a:graphicData uri="http://schemas.openxmlformats.org/drawingml/2006/table">
            <a:tbl>
              <a:tblPr/>
              <a:tblGrid>
                <a:gridCol w="3505320"/>
                <a:gridCol w="914400"/>
              </a:tblGrid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6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оредукци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лобо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отреб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а, што је и искоришћено у хемијским изворима струје, који се називају напонске или галванске ћелије или популарно батер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н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905120" y="4152960"/>
            <a:ext cx="68580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905120" y="4838760"/>
            <a:ext cx="68580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905120" y="5524560"/>
            <a:ext cx="68580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1295280" y="5181480"/>
            <a:ext cx="685800" cy="685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295280" y="4495680"/>
            <a:ext cx="685800" cy="685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685800" y="4152960"/>
            <a:ext cx="685800" cy="685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3"/>
          <p:cNvSpPr/>
          <p:nvPr/>
        </p:nvSpPr>
        <p:spPr>
          <a:xfrm>
            <a:off x="685800" y="4838760"/>
            <a:ext cx="68580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4"/>
          <p:cNvSpPr/>
          <p:nvPr/>
        </p:nvSpPr>
        <p:spPr>
          <a:xfrm>
            <a:off x="685800" y="5524560"/>
            <a:ext cx="68580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5"/>
          <p:cNvSpPr/>
          <p:nvPr/>
        </p:nvSpPr>
        <p:spPr>
          <a:xfrm>
            <a:off x="1295280" y="3809880"/>
            <a:ext cx="685800" cy="685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6"/>
          <p:cNvSpPr/>
          <p:nvPr/>
        </p:nvSpPr>
        <p:spPr>
          <a:xfrm>
            <a:off x="1295280" y="5867280"/>
            <a:ext cx="68580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7"/>
          <p:cNvSpPr/>
          <p:nvPr/>
        </p:nvSpPr>
        <p:spPr>
          <a:xfrm>
            <a:off x="3924360" y="3467160"/>
            <a:ext cx="68580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8"/>
          <p:cNvSpPr/>
          <p:nvPr/>
        </p:nvSpPr>
        <p:spPr>
          <a:xfrm>
            <a:off x="2514600" y="3848040"/>
            <a:ext cx="68580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3924360" y="5867280"/>
            <a:ext cx="68580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514600" y="5181480"/>
            <a:ext cx="68580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1"/>
          <p:cNvSpPr/>
          <p:nvPr/>
        </p:nvSpPr>
        <p:spPr>
          <a:xfrm>
            <a:off x="1918800" y="33750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e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AutoShape 85"/>
          <p:cNvCxnSpPr>
            <a:stCxn id="256" idx="0"/>
            <a:endCxn id="267" idx="0"/>
          </p:cNvCxnSpPr>
          <p:nvPr/>
        </p:nvCxnSpPr>
        <p:spPr>
          <a:xfrm flipH="1" flipV="1" rot="5400000">
            <a:off x="2400120" y="3695040"/>
            <a:ext cx="305640" cy="610560"/>
          </a:xfrm>
          <a:prstGeom prst="curvedConnector5">
            <a:avLst>
              <a:gd name="adj1" fmla="val 175000"/>
              <a:gd name="adj2" fmla="val 49970"/>
              <a:gd name="adj3" fmla="val 175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86"/>
          <p:cNvCxnSpPr>
            <a:stCxn id="258" idx="4"/>
            <a:endCxn id="268" idx="3"/>
          </p:cNvCxnSpPr>
          <p:nvPr/>
        </p:nvCxnSpPr>
        <p:spPr>
          <a:xfrm flipH="1" rot="16200000">
            <a:off x="3013560" y="5443200"/>
            <a:ext cx="243720" cy="1777320"/>
          </a:xfrm>
          <a:prstGeom prst="curvedConnector5">
            <a:avLst>
              <a:gd name="adj1" fmla="val 235207"/>
              <a:gd name="adj2" fmla="val 50000"/>
              <a:gd name="adj3" fmla="val 23520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87"/>
          <p:cNvCxnSpPr>
            <a:stCxn id="266" idx="1"/>
            <a:endCxn id="267" idx="7"/>
          </p:cNvCxnSpPr>
          <p:nvPr/>
        </p:nvCxnSpPr>
        <p:spPr>
          <a:xfrm rot="5400000">
            <a:off x="3371040" y="3295440"/>
            <a:ext cx="381600" cy="924840"/>
          </a:xfrm>
          <a:prstGeom prst="curvedConnector5">
            <a:avLst>
              <a:gd name="adj1" fmla="val -86213"/>
              <a:gd name="adj2" fmla="val 50000"/>
              <a:gd name="adj3" fmla="val -862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74" name=""/>
          <p:cNvGraphicFramePr/>
          <p:nvPr/>
        </p:nvGraphicFramePr>
        <p:xfrm>
          <a:off x="4114800" y="3886200"/>
          <a:ext cx="5029200" cy="1554120"/>
        </p:xfrm>
        <a:graphic>
          <a:graphicData uri="http://schemas.openxmlformats.org/drawingml/2006/table">
            <a:tbl>
              <a:tblPr/>
              <a:tblGrid>
                <a:gridCol w="2154240"/>
                <a:gridCol w="768240"/>
                <a:gridCol w="210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0" y="0"/>
            <a:ext cx="9144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оксидоредукционих реакција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ЛКО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ирање на алкохол возача се заснива на оксидоредукционом индикатору, у коме се одвија следећа оксидоредукциона реакција, у којој алкохол реагује са јоном дихро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 2Cr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 3C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4Cr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1H2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ранж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еле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вој реакцији оксида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(l)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(aq)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e + H</a:t>
            </a:r>
            <a:r>
              <a:rPr b="1" lang="sr-Latn-CS" sz="24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равнотежити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Cr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14H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6e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 2Cr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+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7H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 до промене боје из оранж у зелену, интензитет зелене боје је директно пропорционалан концентрацији алкохола који се налази у ваздуху који особа која се тестира издахне.  Метода је као што је познато врло прецизна и врло бр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564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4920" y="22860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ксидо редукционе реакци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 веома важне захваљујући њима мислимо, крећемо се и старимо али их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рећемо 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вакодневном живо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пример, пресечена јабука ће н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некол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 минута почети да добија по површини пресека браон боју, исто ће се дешавати и са другим воћем: бананом, крушкама,.... Изрезано воће ће се у присуству кисеоника који се налази у ваздуху оксидовати, дајући продукте који су браон боје. Ензим који се налази у воћу ће са кисеоником реаговати, познато је да ће се ова појава спречити ако се воће попрска лимуновим соком, или сирћетом. Киселина зауставља рад ензима, а лимун има и С витамин који је познати антиоксидан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tOxidation-ReduxI"/>
          <p:cNvPicPr/>
          <p:nvPr/>
        </p:nvPicPr>
        <p:blipFill>
          <a:blip r:embed="rId1"/>
          <a:stretch/>
        </p:blipFill>
        <p:spPr>
          <a:xfrm>
            <a:off x="762120" y="1523880"/>
            <a:ext cx="300996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tOxidation-ReduxII"/>
          <p:cNvPicPr/>
          <p:nvPr/>
        </p:nvPicPr>
        <p:blipFill>
          <a:blip r:embed="rId2"/>
          <a:stretch/>
        </p:blipFill>
        <p:spPr>
          <a:xfrm>
            <a:off x="4114800" y="1523880"/>
            <a:ext cx="3276720" cy="2449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0" y="228600"/>
            <a:ext cx="876312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Реакције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преноса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електрона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нос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ксидо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дукцион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666440" y="411480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Ox    +   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7"/>
          <p:cNvCxnSpPr/>
          <p:nvPr/>
        </p:nvCxnSpPr>
        <p:spPr>
          <a:xfrm>
            <a:off x="2819520" y="434340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9"/>
          <p:cNvCxnSpPr/>
          <p:nvPr/>
        </p:nvCxnSpPr>
        <p:spPr>
          <a:xfrm flipH="1" flipV="1">
            <a:off x="2819160" y="44949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2821680" y="40384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sid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898000" y="4572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k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371600" y="1295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(1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Ox(1)   +  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3"/>
          <p:cNvCxnSpPr/>
          <p:nvPr/>
        </p:nvCxnSpPr>
        <p:spPr>
          <a:xfrm>
            <a:off x="3200400" y="152352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Straight Arrow Connector 4"/>
          <p:cNvCxnSpPr/>
          <p:nvPr/>
        </p:nvCxnSpPr>
        <p:spPr>
          <a:xfrm flipH="1" flipV="1">
            <a:off x="3200040" y="167616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5"/>
          <p:cNvSpPr/>
          <p:nvPr/>
        </p:nvSpPr>
        <p:spPr>
          <a:xfrm>
            <a:off x="3202560" y="121932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sid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02920" y="1752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k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447920" y="251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 + Ox(2)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d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8"/>
          <p:cNvCxnSpPr/>
          <p:nvPr/>
        </p:nvCxnSpPr>
        <p:spPr>
          <a:xfrm>
            <a:off x="3886200" y="274320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Straight Arrow Connector 9"/>
          <p:cNvCxnSpPr/>
          <p:nvPr/>
        </p:nvCxnSpPr>
        <p:spPr>
          <a:xfrm flipH="1" flipV="1">
            <a:off x="3885840" y="28947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Straight Connector 13"/>
          <p:cNvSpPr/>
          <p:nvPr/>
        </p:nvSpPr>
        <p:spPr>
          <a:xfrm>
            <a:off x="762120" y="3581280"/>
            <a:ext cx="72388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85800" y="3809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(1) + Ox(2)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d(2) + Ox(1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/>
          <p:nvPr/>
        </p:nvCxnSpPr>
        <p:spPr>
          <a:xfrm flipV="1">
            <a:off x="4260960" y="4115520"/>
            <a:ext cx="10101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2"/>
          <p:cNvCxnSpPr/>
          <p:nvPr/>
        </p:nvCxnSpPr>
        <p:spPr>
          <a:xfrm flipH="1" flipV="1">
            <a:off x="4266720" y="42663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1"/>
          <p:cNvSpPr/>
          <p:nvPr/>
        </p:nvSpPr>
        <p:spPr>
          <a:xfrm>
            <a:off x="314280" y="4991040"/>
            <a:ext cx="88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рој електрона који врста која се оксидује отпусти мора увек бити једнак броју електрона који врста која се редукује прими. Важи закон о сачувању укупне количине електрицитета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sr-CS" sz="3200" spc="-1" strike="noStrike">
                <a:solidFill>
                  <a:srgbClr val="fc0128"/>
                </a:solidFill>
                <a:latin typeface="Arial"/>
              </a:rPr>
              <a:t>ксидациони процес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 (</a:t>
            </a:r>
            <a:r>
              <a:rPr b="1" lang="sr-CS" sz="3200" spc="-1" strike="noStrike">
                <a:solidFill>
                  <a:srgbClr val="fc0128"/>
                </a:solidFill>
                <a:latin typeface="Arial"/>
              </a:rPr>
              <a:t>наелектрисање расте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пуштање електр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сидац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</a:rPr>
              <a:t>  (</a:t>
            </a: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редукционо средст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37c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Редукциони процес</a:t>
            </a:r>
            <a:r>
              <a:rPr b="1" lang="en-US" sz="3200" spc="-1" strike="noStrike">
                <a:solidFill>
                  <a:srgbClr val="50009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500093"/>
                </a:solidFill>
                <a:latin typeface="Arial"/>
              </a:rPr>
              <a:t>наелектрисање опада</a:t>
            </a: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мање електр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дукци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оксидационо сред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Редокс процес је увек комбинација </a:t>
            </a:r>
            <a:r>
              <a:rPr b="1" lang="sr-Latn-CS" sz="3200" spc="-1" strike="noStrike">
                <a:solidFill>
                  <a:srgbClr val="00279f"/>
                </a:solidFill>
                <a:latin typeface="Arial"/>
              </a:rPr>
              <a:t> o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ксидационог и редукционог процеса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G04_12"/>
          <p:cNvPicPr/>
          <p:nvPr/>
        </p:nvPicPr>
        <p:blipFill>
          <a:blip r:embed="rId1"/>
          <a:srcRect l="-1715" t="0" r="0" b="48950"/>
          <a:stretch/>
        </p:blipFill>
        <p:spPr>
          <a:xfrm>
            <a:off x="2895480" y="4800600"/>
            <a:ext cx="3030480" cy="1181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0" y="489096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упстанц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оксиду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губ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лектр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а сама је редукционо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153120" y="4876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Супстанца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редукује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добија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електроне, а сама је оксидационо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Правила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о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оксидационом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стањима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0240" y="82224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Ox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мент у слободном с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x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ектрисањ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j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p1 = +1,  Grp2 = +2,  Grp7 = -1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F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O  = -2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, -1,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H = +1: изузев када је везан за елемент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a, K…) H = 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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.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е ј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5398920" y="1862280"/>
            <a:ext cx="3745080" cy="4995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5383080" y="8222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 б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оксидациони бро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04920" y="304920"/>
          <a:ext cx="8839080" cy="6400800"/>
        </p:xfrm>
        <a:graphic>
          <a:graphicData uri="http://schemas.openxmlformats.org/drawingml/2006/table">
            <a:tbl>
              <a:tblPr/>
              <a:tblGrid>
                <a:gridCol w="5676840"/>
                <a:gridCol w="3162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Елементи имају оксидациони број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(s), Br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2( ),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4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. бр. 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кидациони број елемената у моноатомским јонима је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ак је наелектрисању ј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3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−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ксидациони број кисеоника у једињењима је -2, мада има и изузетака (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2O2, OF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 у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ксидациони број водоника у једињењима је +1, изузетак су метални хидриди где је оксидациони број водоника  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л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1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 ковалентним једињењима  која не садрже кисеоник или  водоник  електронегативнији елемент  има оксидациони број који је једнак негативном наелектрисању у његовим јонским једињењим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Cl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1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Сума оксидационих бројева свих елемената у једињењу је једнак 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1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4) + 4(−1)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Сума оксидационих бројева свих елемената у полиатомском јону једнак је вредности наелектрисања јо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2,  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3) + 2(−2) = −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09:04:53Z</dcterms:created>
  <dc:creator>korisnik</dc:creator>
  <dc:description/>
  <dc:language>en-US</dc:language>
  <cp:lastModifiedBy>Snezana Jovanovic</cp:lastModifiedBy>
  <dcterms:modified xsi:type="dcterms:W3CDTF">2023-11-09T08:52:22Z</dcterms:modified>
  <cp:revision>160</cp:revision>
  <dc:subject/>
  <dc:title>Slide 1</dc:title>
</cp:coreProperties>
</file>